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6D53-CA90-48EA-8C6A-932A3F71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B4AD-EFAA-405E-A412-52C4EE4B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2417-CCD2-4C58-9B4C-8539224E5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A577-816F-4873-9D68-66028C8F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03DC-6FBC-4FA6-BD61-E2845693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9733-5B02-4F4C-8D27-97BEBC84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B644-0AD6-47C0-A8F0-0B151933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23B5-92C5-4A64-B789-988F8DCD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220C-951C-41AC-8DF0-E2B1DBD1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B8BB-F643-4312-9CD9-08FABDF9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59FB-C974-4075-B516-C5749DD6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08DD-32B4-446D-AE8B-C4CF2777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4C3D-FB92-41FC-9DEC-259643B10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eb.mit.edu/invent/iow/cartwright.html" TargetMode="External"/><Relationship Id="rId3" Type="http://schemas.openxmlformats.org/officeDocument/2006/relationships/image" Target="../media/image7.png"/><Relationship Id="rId4" Type="http://schemas.openxmlformats.org/officeDocument/2006/relationships/hyperlink" Target="http://web.mit.edu/invent/iow/cartwright.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72200" y="539280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t Schwen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ember 7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Number #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8039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lay Music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igskin Highlight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ember 8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05120" y="1905120"/>
            <a:ext cx="5257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1"/>
                    </a:gs>
                  </a:gsLst>
                  <a:lin ang="5400000"/>
                </a:gradFill>
                <a:latin typeface="Arial Black"/>
              </a:rPr>
              <a:t>Baseba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91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620120" y="685800"/>
            <a:ext cx="1218960" cy="1146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620120" y="434340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80880" y="838080"/>
            <a:ext cx="1067040" cy="1052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228600" y="4419720"/>
            <a:ext cx="1295280" cy="1116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5120" y="4724280"/>
            <a:ext cx="5333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vented By: Alexander Joy Cartw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Cartwright"/>
          <p:cNvPicPr/>
          <p:nvPr/>
        </p:nvPicPr>
        <p:blipFill>
          <a:blip r:embed="rId1"/>
          <a:stretch/>
        </p:blipFill>
        <p:spPr>
          <a:xfrm>
            <a:off x="457200" y="1600200"/>
            <a:ext cx="3076560" cy="3200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22860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3808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exander Joy Cartwright made the game of baseb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nd also made the rules of if, to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4800600"/>
            <a:ext cx="3429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Baseball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, Thursday, December 01, 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cartwrigh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572000" y="1676520"/>
            <a:ext cx="3276720" cy="3170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48320" y="22860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were 9 positions on the baseball field. Catcher, Pitcher, 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ase,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ase, Shortstop,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3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base, Left field, Right field, and Center 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4800600"/>
            <a:ext cx="4038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emelson MIT, Baseball, Thursday, December 01, 2011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eb.mit.edu/invent/iow/cartwrigh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vention: 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re were 9 players (fielders) on the baseball fiel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way you won was the first team to 21 won the gam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Arial"/>
              </a:rPr>
              <a:t>There were 2 ways of getting out. One way was being tagged by a player or getting hit by a ball thrown from a field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Arial"/>
              </a:rPr>
              <a:t>In 1869, the first baseball team was made. It was the Cincinnati Red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Arial"/>
              </a:rPr>
              <a:t>Years after 1869, there were 2 leagues created. These two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ff"/>
                </a:solidFill>
                <a:latin typeface="Arial"/>
              </a:rPr>
              <a:t>leagues were called the National league and the American league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Arial"/>
              </a:rPr>
              <a:t>The baseball association agreed that they should be a “Negro league” which means you could not play baseball that are a different race than you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But in 1947, the Brooklyn Dodgers signed Jackie Robinson breaking the color barrier that consigned black players to the “Negro Leagues”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ventor: Alexander Joy Cartwr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lexander was born in the year of 18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rtwright invented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ame of base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rtwright also established the rules of baseball al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lexander Joy Cartwright died in the summer of 189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5:28:39Z</dcterms:created>
  <dc:creator>install</dc:creator>
  <dc:description/>
  <dc:language>en-US</dc:language>
  <cp:lastModifiedBy>install</cp:lastModifiedBy>
  <dcterms:modified xsi:type="dcterms:W3CDTF">2011-12-19T14:51:05Z</dcterms:modified>
  <cp:revision>7</cp:revision>
  <dc:subject/>
  <dc:title>Slide 1</dc:title>
</cp:coreProperties>
</file>